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97AFF-8A84-41C8-ACA8-85E36CD26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B0306-96BA-4929-8736-87942D4DB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58001-E586-4D52-884B-4AC081F26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CFD64-186D-4568-994F-5AAC27024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BE0B3-1827-410A-8A1C-1ED708517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2E8EE-7662-4773-88A2-188336D96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C6ED8-C8EA-4FD6-8BA9-9662876BA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C06EA-5B12-48D7-A75E-4843921E0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EB1B2-28FB-4232-801D-2476B90B4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6BC85-B116-4ED5-A96E-BF39C806E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69346-E335-478F-9F45-6B72AB472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C089A-2392-425C-89C3-F8B8EC70A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BC6CC-600A-499C-B8BE-F332C15C4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329F0-6311-4D02-97EA-494E67643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04BF0-2564-46D6-A872-F4D8D0007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93F35-0D79-4AFD-B003-E044A026C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0C419-8EF4-4AAE-9ED9-DEBD1C9B6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7F522-BBA9-4C3B-AC6B-3F8D527DA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02EF2-53A3-4D2D-885B-FD38D8C5B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A95E4-38A5-4CEC-AF9E-664991E6B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8FA56-8994-4FC1-AC98-442454854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F8D9E-79D6-4F1C-B594-B168DF442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FCE43-1AD0-42CB-8F87-42A24D868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03385-34B4-4CF4-9BF1-A37D3B299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2993F-CD16-43D2-906F-B5802535DAD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059AD-986D-469F-A361-0D17FB3F8F7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reative Writing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is Creativity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1600200" y="1343160"/>
            <a:ext cx="6095880" cy="40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1447920" y="1346040"/>
            <a:ext cx="61722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1452600" y="1200240"/>
            <a:ext cx="6238800" cy="44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1828800" y="1155600"/>
            <a:ext cx="5638680" cy="44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523880" y="11430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1447920" y="1349280"/>
            <a:ext cx="5867280" cy="39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2057400" y="977760"/>
            <a:ext cx="4724280" cy="460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14280" y="1357200"/>
            <a:ext cx="6715440" cy="41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1447920" y="1420920"/>
            <a:ext cx="6095880" cy="41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1752480" y="1569960"/>
            <a:ext cx="5715000" cy="36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590920" y="457200"/>
            <a:ext cx="4286160" cy="53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1066680" y="1035000"/>
            <a:ext cx="6934320" cy="484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1433520" y="1214280"/>
            <a:ext cx="6276960" cy="44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1905120" y="1143000"/>
            <a:ext cx="5562360" cy="445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2438280" y="762120"/>
            <a:ext cx="390528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428920" y="480960"/>
            <a:ext cx="4286160" cy="589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1371600" y="1347840"/>
            <a:ext cx="6324480" cy="42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1371600" y="1300320"/>
            <a:ext cx="6095880" cy="40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5T13:38:30Z</dcterms:created>
  <dc:creator>Owner</dc:creator>
  <dc:description/>
  <dc:language>en-US</dc:language>
  <cp:lastModifiedBy>Owner</cp:lastModifiedBy>
  <dcterms:modified xsi:type="dcterms:W3CDTF">2012-09-05T14:15:45Z</dcterms:modified>
  <cp:revision>2</cp:revision>
  <dc:subject/>
  <dc:title>Creative Writing</dc:title>
</cp:coreProperties>
</file>